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7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FD8-E3A8-4307-8CD9-DA0B615D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650-41DA-4EDA-8369-81497DAB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501-8C0E-4E02-B8D5-359C3EB0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4C6-C08C-48E7-87B8-80E788D0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15D1-BF85-445D-98DC-1FC0A1DE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9750-F33E-43E2-BDF5-BB00CCBE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851D-5932-4BCA-8D74-D04E1E4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7971-814E-46D7-A113-BB999F32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FFE9-C370-44E7-B062-4E1264A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02CA-C724-48F4-87B0-76A5398A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689D-1E8D-41CA-B4C4-6ACEB010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AF5-F51F-4A26-82D0-C5F26474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DB07-783A-4A58-9BD1-26768FF8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E440-BCFB-46AD-BA97-8D81772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4C4F-82E1-4C01-B557-75C3DC38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9E8E-E997-40CF-9106-FD8CBF93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D707-42FC-4E3D-99D9-F89D8A73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D3D-D33C-4043-A3F4-FE6B0C53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E99-92A7-443E-9868-D5D94DC0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EF2-FC29-4D78-AE70-E07A75CB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6B3-FA75-46B0-AF7E-912AABB3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DE8-C233-4762-A25A-936DA38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82B-8AC0-4DB9-B412-5BDDFB64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E33-B0F4-4B45-A63F-027E459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58F8-7FF7-4FA5-B67D-473ABE867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5752-2900-47B0-8F38-82557BF7A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axgardner@maxgardner.com" TargetMode="External"/><Relationship Id="rId3" Type="http://schemas.openxmlformats.org/officeDocument/2006/relationships/hyperlink" Target="http://www.maxgardnerlaw.com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Amortization of A Daily Interest $200,000 Mortgag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. Max Gardner I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axgardner@maxgardner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maxgardnerlaw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4.487.06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otal Amount of Interest Pai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3 Monthly Payments Were Actually Mis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Payments Included Chapter 13 Plan But Paid Through the Plan by Chapter 13 Trus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icer Parked first 2 Post-Petition Payments in a Suspense Account and Never Applied to Principal and Inte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icer Never Applied Trustee Payments to Principal and Interest but Parked Those Payments in a Suspense Ac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otal Interest Pai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ahoma"/>
              </a:rPr>
              <a:t>$467,698.63 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0" y="1066680"/>
            <a:ext cx="1828800" cy="191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182880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76720" y="3200400"/>
            <a:ext cx="2590560" cy="23623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mmary of Cash Flow Data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3949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inal Mortgage Pay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$109,451.25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Where Did the 5 Payments Go?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$7,884.85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ker Price Opinion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ty Preservation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ty Inspection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y-Off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unt Review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porate Advance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orney Advance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utory Expense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nking and Check-by-Phone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ced Placed Insurance &amp; Escrow Advance F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. . .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application of Pay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spense Accou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porate Advance Accou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orney Fees Advanc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crow Accou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Effects of Missing Payments and Filing Chapter 13 Bankrupt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orrower Gets Approved for a $200,000 Daily 8.775% Interest Mortgag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Daily Inter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heduled Pay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19520" y="3505320"/>
            <a:ext cx="32004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Borrower Makes First 11 Payments But Falls Two Payments in Arrears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iles Chapter 13 to Stop Foreclosure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3 Payments Included in the Plan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Debtor Makes all Direct Payments Thereafter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ervicer Parks First 2 Post Petition Payments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8 Years, 90 Payments, and </a:t>
            </a: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$141,927.30 later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…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Money  Really Does Mat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297180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Original Loan Amount of $200,000.00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is Reached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Loan was in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Negative Amortization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or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89 Month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enjamin'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and Total Still Due after Making 359 Monthly Mortgage Payments of $1,576.97 Per Payment is . 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hort, You Only Have ONE Mortgage Payment to Clear the Original $200,000.00 loan. 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, that Payment is 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3300"/>
                </a:solidFill>
                <a:uFillTx/>
                <a:latin typeface="Tahoma"/>
              </a:rPr>
              <a:t>$109,451.25 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16:43Z</dcterms:created>
  <dc:creator>bgardner</dc:creator>
  <dc:description/>
  <dc:language>en-US</dc:language>
  <cp:lastModifiedBy>O. Max Gardner III</cp:lastModifiedBy>
  <dcterms:modified xsi:type="dcterms:W3CDTF">2006-03-17T13:34:17Z</dcterms:modified>
  <cp:revision>20</cp:revision>
  <dc:subject/>
  <dc:title>Slide 1</dc:title>
</cp:coreProperties>
</file>